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054160" y="733320"/>
            <a:ext cx="27496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281A-9256-4EBD-B77C-66915B163BA9}" type="slidenum">
              <a:rPr b="0" lang="el-G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054160" y="733320"/>
            <a:ext cx="2749680" cy="36655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3 - Θέση αριθμού διαφάνειας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B608-4D50-46B3-AE40-E320F71222F2}" type="slidenum">
              <a:rPr b="0" lang="el-G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80C4-1F30-40CB-8188-37B5F008B7BA}" type="slidenum">
              <a:rPr b="0" lang="el-G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054160" y="733320"/>
            <a:ext cx="2749680" cy="36655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50C-6736-46F9-8E4A-303F61E6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E52-B749-40AD-A4C6-37E3459F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257-85F9-4388-BFBC-3225BCA0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1668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9100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1668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9100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96F-0F79-4D9F-A22C-DC778A1A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CF4F-57FB-4E67-894E-6EDB3DA4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A660-176E-4A1D-BA32-195CA185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B89D-AE25-494F-81A5-D574219F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0DE9-2852-4D54-825B-AA23A1DF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80A3-A376-45BA-A759-EC8D9184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626724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BB8B-C33D-476B-A93F-F245BCCA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324E-5B4A-4A20-B6D2-705933B8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1BF-0A7A-44C2-8F5D-FAC753B2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054F-B1A5-43DF-86F5-CC51844D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E46A-F910-4C3A-A4A1-C2CBEB71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FA30-DC19-4AF2-868C-D7B16F06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691A-FB2D-495E-811F-7AEC3994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1668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9100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1668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9100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384C-0201-42F2-9B32-DCD19D0E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2A5D-F3E7-4A12-AD25-347C611A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3EC-62FD-4108-939D-7C10B80D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ECC-9B4F-4AD9-9F68-84B85588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626724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7AD-1D77-49D6-B940-555139E5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F65B-43B4-427A-94BA-A7DC757F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AA2B-24DF-408E-A47F-23ACC68B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7ABA-9F32-4DB5-8EA8-913BC896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0504d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05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830556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0556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47920" y="83055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eeece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94CA-2387-4B87-8A43-699AE732A8DF}" type="slidenum">
              <a:rPr b="0" lang="el-GR" sz="14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685800" y="1752480"/>
            <a:ext cx="6172200" cy="5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:\paint.GIF"/>
          <p:cNvPicPr/>
          <p:nvPr/>
        </p:nvPicPr>
        <p:blipFill>
          <a:blip r:embed="rId2"/>
          <a:stretch/>
        </p:blipFill>
        <p:spPr>
          <a:xfrm>
            <a:off x="685800" y="2438280"/>
            <a:ext cx="6172200" cy="513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0504d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050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8305560"/>
            <a:ext cx="1447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62320" y="8305560"/>
            <a:ext cx="2133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95288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104B-5141-469F-9B61-7A964084B6A1}" type="slidenum">
              <a:rPr b="0" lang="el-G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kt.gr/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609480" y="1371600"/>
            <a:ext cx="5943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Comic Sans MS"/>
              </a:rPr>
              <a:t>E</a:t>
            </a:r>
            <a:r>
              <a:rPr b="1" lang="el-GR" sz="6000" spc="-1" strike="noStrike">
                <a:solidFill>
                  <a:srgbClr val="006600"/>
                </a:solidFill>
                <a:latin typeface="Comic Sans MS"/>
              </a:rPr>
              <a:t>φτά βήματα στη διαδικασία της αναζήτησης</a:t>
            </a:r>
            <a:endParaRPr b="0" lang="en-US" sz="60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2357280" y="5072040"/>
            <a:ext cx="2281320" cy="2247840"/>
          </a:xfrm>
          <a:prstGeom prst="rect">
            <a:avLst/>
          </a:prstGeom>
          <a:ln w="0">
            <a:noFill/>
          </a:ln>
        </p:spPr>
      </p:pic>
      <p:sp>
        <p:nvSpPr>
          <p:cNvPr id="93" name="5 - TextBox"/>
          <p:cNvSpPr/>
          <p:nvPr/>
        </p:nvSpPr>
        <p:spPr>
          <a:xfrm>
            <a:off x="714240" y="7786800"/>
            <a:ext cx="5500800" cy="7038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Διαμαντούλα Νάκα, υπεύθυνη Σχολικής Βιβλιοθήκης 2</a:t>
            </a:r>
            <a:r>
              <a:rPr b="0" lang="el-GR" sz="2000" spc="-1" strike="noStrike" baseline="30000">
                <a:solidFill>
                  <a:srgbClr val="006600"/>
                </a:solidFill>
                <a:latin typeface="Comic Sans MS"/>
              </a:rPr>
              <a:t>ου</a:t>
            </a: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 Γυμνασίου Κοζάνης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6267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8000"/>
                </a:solidFill>
                <a:latin typeface="Comic Sans MS"/>
              </a:rPr>
              <a:t>Τι είναι οι περιοδικές εκδόσεις;</a:t>
            </a:r>
            <a:endParaRPr b="0" lang="en-US" sz="32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720" y="2286000"/>
            <a:ext cx="613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Περιοδικές εκδόσεις είναι εφημερίδες,περιοδικά που εκδίδονται ανά τακτά χρονικά διαστήματα ( ημερήσια, εβδομαδιαία, μηνιαία, διμηνιαία κ.λ.π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Αν γνωρίζω την τοποθεσία ενός άρθρου, την αναζητώ ηλεκτρονικά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Αν δεν γνωρίζω, αλλά θέλω να βρω γενικά κάποια άρθρ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Ξεκαθαρίζω που θα ψάξω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Σε σχολ. Εφημερίδε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Σε ελληνικές ή ξένες εφημερίδε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Σε δημοφιλή περιοδικ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Και στα τρί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Μπαίνω στην ιστοσελίδα της έκδοσης που επέλεξα και πάω στην αναζήτηση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Πληκτρολογώ λέξεις όπως αλκοόλ, νέοι, υγεία ή και μόνο την πρώτη και από το σύνολο των άρθρων που θα μου βρεί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,</a:t>
            </a: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 θα μελετήσω αυτό που μ’ ενδιαφέρει και θα το αποθηκεύσω ή θα το εκτυπώσω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6 - Αριστερό βέλος">
            <a:hlinkClick r:id="rId1" action="ppaction://hlinksldjump"/>
          </p:cNvPr>
          <p:cNvSpPr/>
          <p:nvPr/>
        </p:nvSpPr>
        <p:spPr>
          <a:xfrm>
            <a:off x="2928960" y="835812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7" name="7 - TextBox"/>
          <p:cNvSpPr/>
          <p:nvPr/>
        </p:nvSpPr>
        <p:spPr>
          <a:xfrm>
            <a:off x="3214800" y="8501040"/>
            <a:ext cx="78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1400" spc="-1" strike="noStrike" u="sng">
                <a:solidFill>
                  <a:srgbClr val="ffffff"/>
                </a:solidFill>
                <a:uFillTx/>
                <a:latin typeface="Comic Sans MS"/>
                <a:hlinkClick r:id="rId2" action="ppaction://hlinksldjump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6267240" cy="118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8000"/>
                </a:solidFill>
                <a:latin typeface="Comic Sans MS"/>
              </a:rPr>
              <a:t>Βήμα 5 :Πως βρίσκω πηγές στο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nternet</a:t>
            </a:r>
            <a:r>
              <a:rPr b="1" lang="el-GR" sz="3200" spc="-1" strike="noStrike">
                <a:solidFill>
                  <a:srgbClr val="008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57120" y="1856880"/>
            <a:ext cx="6058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8000"/>
                </a:solidFill>
                <a:latin typeface="Comic Sans MS"/>
              </a:rPr>
              <a:t>Ψάχνω σε μηχανές αναζήτησης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8000"/>
                </a:solidFill>
                <a:latin typeface="Tahoma"/>
              </a:rPr>
              <a:t>Ελλ. Μηχανές Αναζήτηση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Pathfin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Phanti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Pi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Robb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8000"/>
                </a:solidFill>
                <a:latin typeface="Tahoma"/>
              </a:rPr>
              <a:t>Μηχανές Αναζήτησης Εξωτερικού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Metacrawl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Goog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Yahoo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Altavist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Lyco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Webcrawl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Teom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76092"/>
                </a:solidFill>
                <a:latin typeface="Tahoma"/>
              </a:rPr>
              <a:t>Looksmar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lnSpc>
                <a:spcPct val="90000"/>
              </a:lnSpc>
              <a:spcBef>
                <a:spcPts val="3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8000"/>
                </a:solidFill>
                <a:latin typeface="Comic Sans MS"/>
              </a:rPr>
              <a:t>Ψάχνω σε συγκεκριμένες ηλεκτρονικές διευθύνσεις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6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4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4f81bd"/>
                </a:solidFill>
                <a:uFillTx/>
                <a:latin typeface="Comic Sans MS"/>
              </a:rPr>
              <a:t>Σημείωση: </a:t>
            </a:r>
            <a:r>
              <a:rPr b="0" lang="el-GR" sz="1400" spc="-1" strike="noStrike">
                <a:solidFill>
                  <a:srgbClr val="008000"/>
                </a:solidFill>
                <a:latin typeface="Comic Sans MS"/>
              </a:rPr>
              <a:t>Ολες οι μηχανές αναζήτησης δεν είναι το ίδιο αποτελεσματικές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64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8000"/>
                </a:solidFill>
                <a:latin typeface="Comic Sans MS"/>
              </a:rPr>
              <a:t>Κριτήρια αξιολόγησης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4f81b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8000"/>
                </a:solidFill>
                <a:latin typeface="Comic Sans MS"/>
              </a:rPr>
              <a:t>Εμφανίζουν πρώτα τις πιο αξιόλογες σελίδες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4f81b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8000"/>
                </a:solidFill>
                <a:latin typeface="Comic Sans MS"/>
              </a:rPr>
              <a:t>Έχουν μεγάλο εύρος αναζήτησης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4f81b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8000"/>
                </a:solidFill>
                <a:latin typeface="Comic Sans MS"/>
              </a:rPr>
              <a:t>Με ποιον τρόπο αναζητούν;(λέξη, φράση, αρχικά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4f81b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8000"/>
                </a:solidFill>
                <a:latin typeface="Comic Sans MS"/>
              </a:rPr>
              <a:t>Είναι εύχρηστες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4f81b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8000"/>
                </a:solidFill>
                <a:latin typeface="Comic Sans MS"/>
              </a:rPr>
              <a:t>Είναι γρήγορες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356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356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5 - Αριστερό βέλος">
            <a:hlinkClick r:id="rId1" action="ppaction://hlinksldjump"/>
          </p:cNvPr>
          <p:cNvSpPr/>
          <p:nvPr/>
        </p:nvSpPr>
        <p:spPr>
          <a:xfrm>
            <a:off x="2928960" y="835812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1" name="6 - TextBox"/>
          <p:cNvSpPr/>
          <p:nvPr/>
        </p:nvSpPr>
        <p:spPr>
          <a:xfrm>
            <a:off x="3214800" y="8501040"/>
            <a:ext cx="78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1400" spc="-1" strike="noStrike" u="sng">
                <a:solidFill>
                  <a:srgbClr val="ffffff"/>
                </a:solidFill>
                <a:uFillTx/>
                <a:latin typeface="Comic Sans MS"/>
                <a:hlinkClick r:id="rId2" action="ppaction://hlinksldjump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8000"/>
                </a:solidFill>
                <a:latin typeface="Comic Sans MS"/>
              </a:rPr>
              <a:t>Πως θα αξιολογήσουμε μια ιστοσελίδα;</a:t>
            </a:r>
            <a:endParaRPr b="0" lang="en-US" sz="32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2720" y="2514240"/>
            <a:ext cx="613404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8000"/>
                </a:solidFill>
                <a:latin typeface="Comic Sans MS"/>
              </a:rPr>
              <a:t>Ακρίβεια :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8000"/>
                </a:solidFill>
                <a:latin typeface="Comic Sans MS"/>
              </a:rPr>
              <a:t>Ποιος την κατασκεύασε, μπορούμε να επικοινωνήσουμε μαζί του; Ποιος ήταν ο σκοπός της κατασκευής της; Ο συγγραφέας έχει την απαιτούμενη ειδίκευση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8000"/>
                </a:solidFill>
                <a:latin typeface="Comic Sans MS"/>
              </a:rPr>
              <a:t>Αυθεντικότητα</a:t>
            </a: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 :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8000"/>
                </a:solidFill>
                <a:latin typeface="Comic Sans MS"/>
              </a:rPr>
              <a:t>Ποιος δημοσίευσε τη σελίδα, έχει προσόντα; Βρίσκεται στην σελίδα κάποιου πανεπιστημίου ή ιδρύματος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8000"/>
                </a:solidFill>
                <a:latin typeface="Comic Sans MS"/>
              </a:rPr>
              <a:t>Αντικειμενικότητα :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8000"/>
                </a:solidFill>
                <a:latin typeface="Comic Sans MS"/>
              </a:rPr>
              <a:t>Ποιους στόχους έχει; Πόσο λεπτομερής είναι; Τι απόψεις εκφράζει; Μήπως έχει σκοπό μόνο τη διαφήμιση; Δείτε κάθε σελίδα και αναρωτηθείτε ποιος την έγραψε και για ποιο κοιν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8000"/>
                </a:solidFill>
                <a:latin typeface="Comic Sans MS"/>
              </a:rPr>
              <a:t>Κυκλοφορία :</a:t>
            </a:r>
            <a:r>
              <a:rPr b="1" lang="el-GR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8000"/>
                </a:solidFill>
                <a:latin typeface="Comic Sans MS"/>
              </a:rPr>
              <a:t>Πότε βγήκε; Πότε ανανεώθηκε για τελευταία φορά; Πόσο συχνά ανανεώνεται; Μήπως περιέχει πολλά που δεν ανταποκρίνονται; Μήπως οι πληροφορίες που περιέχει δεν ισχύουν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8000"/>
                </a:solidFill>
                <a:latin typeface="Comic Sans MS"/>
              </a:rPr>
              <a:t>Κάλυψη : </a:t>
            </a:r>
            <a:r>
              <a:rPr b="0" lang="el-GR" sz="1800" spc="-1" strike="noStrike">
                <a:solidFill>
                  <a:srgbClr val="008000"/>
                </a:solidFill>
                <a:latin typeface="Comic Sans MS"/>
              </a:rPr>
              <a:t>Μπορείτε να δείτε όλες τις πληροφορίες ελεύθερα; Μήπως περιέχει όλο εικόνες; Παρουσιάζονται σωστά όλες οι πληροφορίες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5 - Αριστερό βέλος">
            <a:hlinkClick r:id="rId1" action="ppaction://hlinksldjump"/>
          </p:cNvPr>
          <p:cNvSpPr/>
          <p:nvPr/>
        </p:nvSpPr>
        <p:spPr>
          <a:xfrm>
            <a:off x="2928960" y="835812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5" name="6 - TextBox"/>
          <p:cNvSpPr/>
          <p:nvPr/>
        </p:nvSpPr>
        <p:spPr>
          <a:xfrm>
            <a:off x="3214800" y="85010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Comic Sans MS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8000"/>
                </a:solidFill>
                <a:latin typeface="Comic Sans MS"/>
              </a:rPr>
              <a:t>Πως βρίσκω οπτικοακουστικό υλικό;</a:t>
            </a:r>
            <a:endParaRPr b="0" lang="en-US" sz="32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720" y="2514240"/>
            <a:ext cx="6134040" cy="39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8000"/>
                </a:solidFill>
                <a:latin typeface="Comic Sans MS"/>
              </a:rPr>
              <a:t>Αναζήτηση στον κατάλογο της σχολικής βιβλιοθήκης στο «Οπτικοακουστικό υλικό» ή «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deorecording</a:t>
            </a:r>
            <a:r>
              <a:rPr b="0" lang="el-GR" sz="2400" spc="-1" strike="noStrike">
                <a:solidFill>
                  <a:srgbClr val="008000"/>
                </a:solidFill>
                <a:latin typeface="Comic Sans MS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8000"/>
                </a:solidFill>
                <a:latin typeface="Comic Sans MS"/>
              </a:rPr>
              <a:t>Αναζήτηση στο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Internet </a:t>
            </a:r>
            <a:r>
              <a:rPr b="0" lang="el-GR" sz="2400" spc="-1" strike="noStrike">
                <a:solidFill>
                  <a:srgbClr val="008000"/>
                </a:solidFill>
                <a:latin typeface="Comic Sans MS"/>
              </a:rPr>
              <a:t>μέσω μηχανών αναζήτησης (π.χ. Ινδία,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de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Feature fil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Documentary fil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Sound recor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5 - Αριστερό βέλος"/>
          <p:cNvSpPr/>
          <p:nvPr/>
        </p:nvSpPr>
        <p:spPr>
          <a:xfrm>
            <a:off x="2928960" y="835812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9" name="6 - TextBox"/>
          <p:cNvSpPr/>
          <p:nvPr/>
        </p:nvSpPr>
        <p:spPr>
          <a:xfrm>
            <a:off x="3214800" y="85010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Comic Sans MS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8000"/>
                </a:solidFill>
                <a:latin typeface="Comic Sans MS"/>
              </a:rPr>
              <a:t>Βήμα 6. Πως θα αξιολογήσω τις πηγές μου;</a:t>
            </a:r>
            <a:endParaRPr b="0" lang="en-US" sz="32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2720" y="2514240"/>
            <a:ext cx="613404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Comic Sans MS"/>
              </a:rPr>
              <a:t>Μπορούμε να αξιολογήσουμε κάποιες πηγές μόνο από τη βιβλιογραφία. Προσέχουμ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f81bd"/>
                </a:solidFill>
                <a:latin typeface="Comic Sans MS"/>
              </a:rPr>
              <a:t>τον συγγραφέα</a:t>
            </a:r>
            <a:r>
              <a:rPr b="0" lang="el-GR" sz="2400" spc="-1" strike="noStrike">
                <a:solidFill>
                  <a:srgbClr val="006600"/>
                </a:solidFill>
                <a:latin typeface="Comic Sans MS"/>
              </a:rPr>
              <a:t> (θέση, μόρφωση, ειδίκευση, πείρα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f81bd"/>
                </a:solidFill>
                <a:latin typeface="Comic Sans MS"/>
              </a:rPr>
              <a:t>ημερομηνία</a:t>
            </a:r>
            <a:r>
              <a:rPr b="0" lang="el-GR" sz="2400" spc="-1" strike="noStrike">
                <a:solidFill>
                  <a:srgbClr val="006600"/>
                </a:solidFill>
                <a:latin typeface="Comic Sans MS"/>
              </a:rPr>
              <a:t> δημοσίευσης ή χρόνος έκδοση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f81bd"/>
                </a:solidFill>
                <a:latin typeface="Comic Sans MS"/>
              </a:rPr>
              <a:t>έκδοση</a:t>
            </a:r>
            <a:r>
              <a:rPr b="0" lang="el-GR" sz="2400" spc="-1" strike="noStrike">
                <a:solidFill>
                  <a:srgbClr val="006600"/>
                </a:solidFill>
                <a:latin typeface="Comic Sans MS"/>
              </a:rPr>
              <a:t> (οι πολλές εκδόσεις δείχνουν ότι πρόκειται για πηγή που χρησιμοποιείται πολ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601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f81bd"/>
                </a:solidFill>
                <a:latin typeface="Comic Sans MS"/>
              </a:rPr>
              <a:t>εκδότη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f81bd"/>
                </a:solidFill>
                <a:latin typeface="Comic Sans MS"/>
              </a:rPr>
              <a:t>εφημερίδα-περιοδικό</a:t>
            </a:r>
            <a:r>
              <a:rPr b="0" lang="el-GR" sz="2400" spc="-1" strike="noStrike">
                <a:solidFill>
                  <a:srgbClr val="006600"/>
                </a:solidFill>
                <a:latin typeface="Comic Sans MS"/>
              </a:rPr>
              <a:t> (επιστημονική ή λαϊκή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5 - Αριστερό βέλος"/>
          <p:cNvSpPr/>
          <p:nvPr/>
        </p:nvSpPr>
        <p:spPr>
          <a:xfrm>
            <a:off x="2928960" y="835812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3" name="6 - TextBox"/>
          <p:cNvSpPr/>
          <p:nvPr/>
        </p:nvSpPr>
        <p:spPr>
          <a:xfrm>
            <a:off x="3214800" y="85010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Comic Sans MS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6600"/>
                </a:solidFill>
                <a:latin typeface="Comic Sans MS"/>
              </a:rPr>
              <a:t>Πως θα αξιολογήσετε τις πηγές σας από το περιεχόμενο;</a:t>
            </a:r>
            <a:endParaRPr b="0" lang="en-US" sz="32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2720" y="2514240"/>
            <a:ext cx="613404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Ανάλυση περιεχομένο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6600"/>
                </a:solidFill>
                <a:latin typeface="Comic Sans MS"/>
              </a:rPr>
              <a:t>Διαβάστε τον πρόλογο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6600"/>
                </a:solidFill>
                <a:latin typeface="Comic Sans MS"/>
              </a:rPr>
              <a:t>Δείτε τα περιεχόμενα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6600"/>
                </a:solidFill>
                <a:latin typeface="Comic Sans MS"/>
              </a:rPr>
              <a:t>Δείτε αν περιλαμβάνει βιβλιογραφία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6600"/>
                </a:solidFill>
                <a:latin typeface="Comic Sans MS"/>
              </a:rPr>
              <a:t>Διαβάστε τα κεφάλαια που αφορούν το θέμα σα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Σε τι κοινό απευθύνεται η έκδοση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Οι πληροφορίες αφορούν γεγονότα ή απόψεις του συγγραφέα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6600"/>
                </a:solidFill>
                <a:latin typeface="Comic Sans MS"/>
              </a:rPr>
              <a:t>Οι πληροφορίες αξίζουν; Είναι καλά τεκμηριωμένες ή είναι αμφισβητούμενες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Comic Sans MS"/>
              </a:rPr>
              <a:t>Συνεχίζουν ιδέες άλλων συγγραφέων ή είναι ριζικά διαφορετικές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6600"/>
                </a:solidFill>
                <a:latin typeface="Comic Sans MS"/>
              </a:rPr>
              <a:t>Οι απόψεις του συγγραφέα εκτίθενται νηφάλια και αντικειμενικά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Το υλικό βασίζεται σε πρωτεύουσες ή δευτερεύουσες πηγέ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Το υλικό παρουσιάζεται λογικά; τονίζονται και παρουσιάζονται καθαρά τα κύρια θέματά του; Είναι ευκολοδιάβαστο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Διαβάστε κριτικές που έκαναν άλλοι γι’ αυτό το βιβλίο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5 - Αριστερό βέλος"/>
          <p:cNvSpPr/>
          <p:nvPr/>
        </p:nvSpPr>
        <p:spPr>
          <a:xfrm>
            <a:off x="2928960" y="835812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7" name="6 - TextBox"/>
          <p:cNvSpPr/>
          <p:nvPr/>
        </p:nvSpPr>
        <p:spPr>
          <a:xfrm>
            <a:off x="3214800" y="85010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Comic Sans MS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6600"/>
                </a:solidFill>
                <a:latin typeface="Comic Sans MS"/>
              </a:rPr>
              <a:t>Βήμα 7:</a:t>
            </a:r>
            <a:r>
              <a:rPr b="0" lang="el-GR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l-GR" sz="3200" spc="-1" strike="noStrike">
                <a:solidFill>
                  <a:srgbClr val="006600"/>
                </a:solidFill>
                <a:latin typeface="Comic Sans MS"/>
              </a:rPr>
              <a:t>Παράθεση των πηγών</a:t>
            </a:r>
            <a:endParaRPr b="0" lang="en-US" sz="32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Tahoma"/>
              </a:rPr>
              <a:t>Βιβλία: Τρία στοιχεί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όνομα συγγραφέ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τίτλος βιβλίο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πληροφορίες σχετικά με την έκδοση(τόπος έκδοσης, εκδότης, χρόνος έκδοσης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6600"/>
                </a:solidFill>
                <a:latin typeface="Comic Sans MS"/>
              </a:rPr>
              <a:t>π.χ. Σεφέρης Γ., Ποιήματα, Αθήνα, Ερμής, 197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Comic Sans MS"/>
              </a:rPr>
              <a:t>Αρθρα εφημερίδων - περιοδικώ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Επίθετο συγγραφέ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Ονομα συγγραφέ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«Τίτλος άρθρου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Τίτλος περιοδικού ή εφημερίδα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Αριθμός τόμου ή τεύχου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Ημερομηνί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Αριθμός σελίδω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5 - Αριστερό βέλος"/>
          <p:cNvSpPr/>
          <p:nvPr/>
        </p:nvSpPr>
        <p:spPr>
          <a:xfrm>
            <a:off x="2928960" y="835812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1" name="6 - TextBox"/>
          <p:cNvSpPr/>
          <p:nvPr/>
        </p:nvSpPr>
        <p:spPr>
          <a:xfrm>
            <a:off x="3214800" y="85010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Comic Sans MS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5480" y="428760"/>
            <a:ext cx="626724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00"/>
                </a:solidFill>
                <a:latin typeface="Comic Sans MS"/>
              </a:rPr>
              <a:t>              </a:t>
            </a:r>
            <a:r>
              <a:rPr b="1" lang="el-GR" sz="3200" spc="-1" strike="noStrike">
                <a:solidFill>
                  <a:srgbClr val="006600"/>
                </a:solidFill>
                <a:latin typeface="Comic Sans MS"/>
              </a:rPr>
              <a:t>Γενικές αρχές</a:t>
            </a:r>
            <a:endParaRPr b="0" lang="en-US" sz="32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Tahoma"/>
              </a:rPr>
              <a:t>Εργαστείτε από τα γενικά στα ειδικά (από τις γενικές πληροφορίες στις ειδικές και πιο πρόσφατες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Tahoma"/>
              </a:rPr>
              <a:t>Σημειώστε ό,τι βρήκατε και πού το βρήκατε (κρατήστε τα πλήρη στοιχεία γιατί θα τα χρειαστείτε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Tahoma"/>
              </a:rPr>
              <a:t>Θέλετε να είστε σίγουροι ότι βαδίζετε σωστά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l-GR" sz="3200" spc="-1" strike="noStrike">
                <a:solidFill>
                  <a:srgbClr val="4f81bd"/>
                </a:solidFill>
                <a:latin typeface="Tahoma"/>
              </a:rPr>
              <a:t>Ρωτήστε τον υπεύθυνο καθηγητή ή τον υπεύθυνο      βιβλιοθήκη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6 - TextBox"/>
          <p:cNvSpPr/>
          <p:nvPr/>
        </p:nvSpPr>
        <p:spPr>
          <a:xfrm>
            <a:off x="357120" y="8143920"/>
            <a:ext cx="6215040" cy="3070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omic Sans MS"/>
              </a:rPr>
              <a:t>Πηγή :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library.cornell.edu/olinuris/ref/research/skill1.htm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E</a:t>
            </a:r>
            <a:r>
              <a:rPr b="1" lang="el-GR" sz="3600" spc="-1" strike="noStrike">
                <a:solidFill>
                  <a:srgbClr val="006600"/>
                </a:solidFill>
                <a:latin typeface="Comic Sans MS"/>
              </a:rPr>
              <a:t>φτά βήματα στη διαδικασία της αναζήτησης</a:t>
            </a: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Comic Sans MS"/>
              </a:rPr>
              <a:t>Περιγράφουν μια απλή στρατηγική αναζήτησης πληροφοριών για μια εργασί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Comic Sans MS"/>
              </a:rPr>
              <a:t>Βοηθούν να τεκμηριώσουμε τις πηγές που βρήκαμ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Comic Sans MS"/>
              </a:rPr>
              <a:t>Βοηθούν να αξιολογήσουμε τις πηγές μα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Comic Sans MS"/>
              </a:rPr>
              <a:t>Είναι μια διαδικασία επαναλαμβανόμενη</a:t>
            </a:r>
            <a:r>
              <a:rPr b="0" lang="el-GR" sz="2800" spc="-1" strike="noStrike">
                <a:solidFill>
                  <a:srgbClr val="006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42720" y="2214360"/>
            <a:ext cx="613404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Βήμα 1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  <a:hlinkClick r:id="rId1" action="ppaction://hlinksldjump"/>
              </a:rPr>
              <a:t>T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Comic Sans MS"/>
                <a:hlinkClick r:id="rId2" action="ppaction://hlinksldjump"/>
              </a:rPr>
              <a:t>αυτότητα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  <a:hlinkClick r:id="rId3" action="ppaction://hlinksldjump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Comic Sans MS"/>
                <a:hlinkClick r:id="rId4" action="ppaction://hlinksldjump"/>
              </a:rPr>
              <a:t>ενός θέματο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Βήμα 2: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Comic Sans MS"/>
                <a:hlinkClick r:id="rId5" action="ppaction://hlinksldjump"/>
              </a:rPr>
              <a:t>Εξέταση ενός θέματο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Comic Sans MS"/>
                <a:hlinkClick r:id="rId6" action="ppaction://hlinksldjump"/>
              </a:rPr>
              <a:t>Εύρεση και εξέταση βιβλιογραφία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Comic Sans MS"/>
                <a:hlinkClick r:id="rId7" action="ppaction://hlinksldjump"/>
              </a:rPr>
              <a:t>Πρόβλημ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ήμα 3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Comic Sans MS"/>
                <a:hlinkClick r:id="rId8" action="ppaction://hlinksldjump"/>
              </a:rPr>
              <a:t>Πως βρίσκουμε βιβλία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ήμα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Comic Sans MS"/>
                <a:hlinkClick r:id="rId9" action="ppaction://hlinksldjump"/>
              </a:rPr>
              <a:t>4:Αναζήτηση σε καταλόγους περιοδικών εκδόσεω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Comic Sans MS"/>
                <a:hlinkClick r:id="rId10" action="ppaction://hlinksldjump"/>
              </a:rPr>
              <a:t>Τι είναι οι περιοδικές εκδόσει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Βήμα 5 :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Comic Sans MS"/>
                <a:hlinkClick r:id="rId11" action="ppaction://hlinksldjump"/>
              </a:rPr>
              <a:t>Πως βρίσκω πηγές στο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hlinkClick r:id="rId12" action="ppaction://hlinksldjump"/>
              </a:rPr>
              <a:t>Internet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Comic Sans MS"/>
                <a:hlinkClick r:id="rId13" action="ppaction://hlinksldjump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Comic Sans MS"/>
                <a:hlinkClick r:id="rId14" action="ppaction://hlinksldjump"/>
              </a:rPr>
              <a:t>Πως θα αξιολογήσω μια ιστοσελίδα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Comic Sans MS"/>
                <a:hlinkClick r:id="rId15" action="ppaction://hlinksldjump"/>
              </a:rPr>
              <a:t>Πως βρίσκω οπτικοακουστικό υλικό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Βήμα 6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Comic Sans MS"/>
                <a:hlinkClick r:id="rId16" action="ppaction://hlinksldjump"/>
              </a:rPr>
              <a:t>Πως θα αξιολογήσω τις πηγές μο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ffff"/>
                </a:solidFill>
                <a:uFillTx/>
                <a:latin typeface="Comic Sans MS"/>
                <a:hlinkClick r:id="rId17" action="ppaction://hlinksldjump"/>
              </a:rPr>
              <a:t>Αξιολόγηση πηγών από το περιεχόμενο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Βήμα 7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Comic Sans MS"/>
                <a:hlinkClick r:id="rId18" action="ppaction://hlinksldjump"/>
              </a:rPr>
              <a:t>Παράθεση των πηγώ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E</a:t>
            </a:r>
            <a:r>
              <a:rPr b="1" lang="el-GR" sz="3600" spc="-1" strike="noStrike">
                <a:solidFill>
                  <a:srgbClr val="006600"/>
                </a:solidFill>
                <a:latin typeface="Comic Sans MS"/>
              </a:rPr>
              <a:t>φτά βήματα στη διαδικασία της αναζήτησης</a:t>
            </a: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98" name="4 - Δεξιό βέλος"/>
          <p:cNvSpPr/>
          <p:nvPr/>
        </p:nvSpPr>
        <p:spPr>
          <a:xfrm>
            <a:off x="5429160" y="8643960"/>
            <a:ext cx="100008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99" name="5 - TextBox">
            <a:hlinkClick r:id="rId19" action="ppaction://hlinksldjump"/>
          </p:cNvPr>
          <p:cNvSpPr/>
          <p:nvPr/>
        </p:nvSpPr>
        <p:spPr>
          <a:xfrm>
            <a:off x="5572080" y="8786880"/>
            <a:ext cx="6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κλικ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68580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00"/>
                </a:solidFill>
                <a:latin typeface="Comic Sans MS"/>
              </a:rPr>
              <a:t>Βήμα 1: </a:t>
            </a: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T</a:t>
            </a:r>
            <a:r>
              <a:rPr b="1" lang="el-GR" sz="3600" spc="-1" strike="noStrike">
                <a:solidFill>
                  <a:srgbClr val="006600"/>
                </a:solidFill>
                <a:latin typeface="Comic Sans MS"/>
              </a:rPr>
              <a:t>αυτότητα</a:t>
            </a: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006600"/>
                </a:solidFill>
                <a:latin typeface="Comic Sans MS"/>
              </a:rPr>
              <a:t>ενός θέματος</a:t>
            </a:r>
            <a:r>
              <a:rPr b="0" lang="el-GR" sz="3200" spc="-1" strike="noStrike">
                <a:solidFill>
                  <a:srgbClr val="006600"/>
                </a:solidFill>
                <a:latin typeface="Comic Sans MS"/>
              </a:rPr>
              <a:t>            </a:t>
            </a:r>
            <a:endParaRPr b="0" lang="en-US" sz="32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9680" y="2356920"/>
            <a:ext cx="5970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Προσδιορίστε την ταυτότητα και αναπτύξτε το θέμα σα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α)Αν δεν έχετε βρεί κάποιο θέμα</a:t>
            </a: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6600"/>
                </a:solidFill>
                <a:latin typeface="Comic Sans MS"/>
              </a:rPr>
              <a:t>Ρωτήστε   </a:t>
            </a: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τον καθηγητή σα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                 </a:t>
            </a: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τον υπεύθυνο βιβλιοθήκη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6600"/>
                </a:solidFill>
                <a:latin typeface="Comic Sans MS"/>
              </a:rPr>
              <a:t>Ψάξτε      </a:t>
            </a: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σε εφημερίδες (άρθρα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                  </a:t>
            </a: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σε περιοδικά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                  </a:t>
            </a: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σε εγκυκλοπαίδειε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6600"/>
                </a:solidFill>
                <a:latin typeface="Comic Sans MS"/>
              </a:rPr>
              <a:t>Τέλος</a:t>
            </a: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 δείτε τι σας ενδιαφέρει περισσότερο, ποιο είναι το θέμα για το οποίο θα θέλατε να μάθετε περισσότερα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Β)Αν έχετε βρει θέμα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Διατυπώστε το σε μορφή ερωτήματος π.χ.Θέμα: Τα αλκοολούχα ποτά και οι νέοι.Ερώτημα: Ποια είναι η επίδραση των αλκοολούχων ποτών στην υγεία των νέων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Βρείτε λέξεις-κλειδιά στο ερώτημά σας π.χ.αλκ.ποτά,υγεία,νέοι.</a:t>
            </a: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5 - Αριστερό βέλος">
            <a:hlinkClick r:id="rId1" action="ppaction://hlinksldjump"/>
          </p:cNvPr>
          <p:cNvSpPr/>
          <p:nvPr/>
        </p:nvSpPr>
        <p:spPr>
          <a:xfrm>
            <a:off x="2928960" y="835812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3" name="6 - TextBox"/>
          <p:cNvSpPr/>
          <p:nvPr/>
        </p:nvSpPr>
        <p:spPr>
          <a:xfrm>
            <a:off x="3214800" y="8501040"/>
            <a:ext cx="78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1400" spc="-1" strike="noStrike" u="sng">
                <a:solidFill>
                  <a:srgbClr val="ffffff"/>
                </a:solidFill>
                <a:uFillTx/>
                <a:latin typeface="Comic Sans MS"/>
                <a:hlinkClick r:id="rId2" action="ppaction://hlinksldjump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00"/>
                </a:solidFill>
                <a:latin typeface="Comic Sans MS"/>
              </a:rPr>
              <a:t>Βήμα 2:Εξέταση ενός θέματος</a:t>
            </a: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85520" y="2690280"/>
            <a:ext cx="59310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Εξετάστε το θέμα σας βλέποντας τις βασικές αρχές του ή τις λέξεις-κλειδιά. Αυτοί οι όροι θα είναι οι βασικοί όροι αναζήτησης στη βιβλιοθήκη ή στο Intern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Βρείτε μία ή περισσότερες πηγές πληροφοριών για να τις μελετήσετε. Θα σας βοηθήσουν να αντιληφθείτε το γενικό πλαίσιο της εργασίας σας και θα βρείτε γενικά τι πληροφορίες υπάρχουν για το θέμα σας.</a:t>
            </a:r>
            <a:r>
              <a:rPr b="0" lang="el-GR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Οι πιο συχνές πηγές πληροφοριών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Εγκυκλοπαίδειες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Λεξικά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Βιβλί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Βιβλιογραφίε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Περιοδικές εκδόσει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Οπτικοακουστικό υλικ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6 - Αριστερό βέλος">
            <a:hlinkClick r:id="rId1" action="ppaction://hlinksldjump"/>
          </p:cNvPr>
          <p:cNvSpPr/>
          <p:nvPr/>
        </p:nvSpPr>
        <p:spPr>
          <a:xfrm>
            <a:off x="2928960" y="835812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7" name="7 - TextBox"/>
          <p:cNvSpPr/>
          <p:nvPr/>
        </p:nvSpPr>
        <p:spPr>
          <a:xfrm>
            <a:off x="3214800" y="8501040"/>
            <a:ext cx="78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1400" spc="-1" strike="noStrike" u="sng">
                <a:solidFill>
                  <a:srgbClr val="ffffff"/>
                </a:solidFill>
                <a:uFillTx/>
                <a:latin typeface="Comic Sans MS"/>
                <a:hlinkClick r:id="rId2" action="ppaction://hlinksldjump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00"/>
                </a:solidFill>
                <a:latin typeface="Comic Sans MS"/>
              </a:rPr>
              <a:t>Εύρεση και εξέταση βιβλιογραφίας.</a:t>
            </a: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209680"/>
            <a:ext cx="6134040" cy="657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Που βρίσκω μια βιβλιογραφία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στο τέλος των άρθρων μιας εγκυκλοπαίδεια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στο πίσω μέρος κάποιων βιβλίω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σπάνια στα λήμματα ενός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λεξικού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Αυτές οι πηγές συχνά αποτελούν ένα καλό ξεκίνημα για περαιτέρω έρευνα ενός θέματος. Πολλές από τις πηγές που θα βρώ σε βιβλιογραφίες έχουν τις δικές τους βιβλιογραφίες στο τέλο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Πως εξετάζω μια βιβλιογραφία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Διαβάζω προσεκτικά και σημειώνω κάθε χρήσιμη πηγή που αναφέρετα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βιβλί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εφημερίδες, περιοδικά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διευθύνσεις στοInternet κ.λ.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Χρησιμοποιώντας αυτή την τεχνική ρουτίνας και ακολουθώντας τις πηγές των βιβλιογραφιών μπορείτε να συγκεντρώσετε έναν εκπληκτικά μεγάλο αριθμό βιβλίων και άρθρων για ένα θέμα.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5 - Αριστερό βέλος">
            <a:hlinkClick r:id="rId1" action="ppaction://hlinksldjump"/>
          </p:cNvPr>
          <p:cNvSpPr/>
          <p:nvPr/>
        </p:nvSpPr>
        <p:spPr>
          <a:xfrm>
            <a:off x="2928960" y="8572680"/>
            <a:ext cx="1071720" cy="571320"/>
          </a:xfrm>
          <a:prstGeom prst="left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1" name="6 - TextBox"/>
          <p:cNvSpPr/>
          <p:nvPr/>
        </p:nvSpPr>
        <p:spPr>
          <a:xfrm>
            <a:off x="3214800" y="8715240"/>
            <a:ext cx="78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1400" spc="-1" strike="noStrike" u="sng">
                <a:solidFill>
                  <a:srgbClr val="ffffff"/>
                </a:solidFill>
                <a:uFillTx/>
                <a:latin typeface="Comic Sans MS"/>
                <a:hlinkClick r:id="rId2" action="ppaction://hlinksldjump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2672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00"/>
                </a:solidFill>
                <a:latin typeface="Comic Sans MS"/>
              </a:rPr>
              <a:t>ΠΡΟΒΛΗΜΑ</a:t>
            </a: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Τι κάνω όταν οι πληροφορίες είναι</a:t>
            </a:r>
            <a:r>
              <a:rPr b="0" lang="el-GR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υπερβολικά πολλές ή πολύ λίγες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6600"/>
                </a:solidFill>
                <a:latin typeface="Comic Sans MS"/>
              </a:rPr>
              <a:t>Αν οι πληροφορίες είναι πάρα πολλές «στενέψτε» το θέμα σα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π.χ. Αλκοολούχα ποτά και υγεί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Μπύρα και υγεί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6600"/>
                </a:solidFill>
                <a:latin typeface="Comic Sans MS"/>
              </a:rPr>
              <a:t>Αν οι πληροφορίες είναι πολύ λίγες «πλατύνετε» το θέμα σα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π.χ. Υγεία μαθητών-Υγεία νέω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Μπύρα, κρασί, λικέρ-αλκοολούχα ποτά-αλκοόλ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5 - Αριστερό βέλος">
            <a:hlinkClick r:id="rId1" action="ppaction://hlinksldjump"/>
          </p:cNvPr>
          <p:cNvSpPr/>
          <p:nvPr/>
        </p:nvSpPr>
        <p:spPr>
          <a:xfrm>
            <a:off x="2786040" y="821520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5" name="6 - TextBox"/>
          <p:cNvSpPr/>
          <p:nvPr/>
        </p:nvSpPr>
        <p:spPr>
          <a:xfrm>
            <a:off x="3071880" y="8358120"/>
            <a:ext cx="78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1400" spc="-1" strike="noStrike" u="sng">
                <a:solidFill>
                  <a:srgbClr val="ffffff"/>
                </a:solidFill>
                <a:uFillTx/>
                <a:latin typeface="Comic Sans MS"/>
                <a:hlinkClick r:id="rId2" action="ppaction://hlinksldjump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626724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B</a:t>
            </a:r>
            <a:r>
              <a:rPr b="1" lang="el-GR" sz="3200" spc="-1" strike="noStrike">
                <a:solidFill>
                  <a:srgbClr val="008000"/>
                </a:solidFill>
                <a:latin typeface="Comic Sans MS"/>
              </a:rPr>
              <a:t>ήμα 3: Πως βρίσκουμε βιβλία;</a:t>
            </a:r>
            <a:endParaRPr b="0" lang="en-US" sz="32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3080" y="2514240"/>
            <a:ext cx="6210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Αναζήτηση στο κατάλληλο ράφι της σχολικής βιβλιοθήκης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μετά από υπόδειξη του υπευθύνο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Ηλεκτρονική αναζήτηση μέσω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PC </a:t>
            </a: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στο ΑΒΕΚΤ, για να δούμε τι υπάρχει στη σχολ. βιβλιοθήκη για το θέμα μα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Όταν πάρουμε ένα βιβλίο από το ράφι, ψάχνουμε στη βιβλιογραφία του για συμπληρωματικές πηγές. Αυτές μας οδηγούν σε άλλα βιβλί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Αναζήτηση στη Δημοτική Βιβλιοθήκη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Ηλεκτρονική αναζήτηση σε ελληνική βάση δεδομένων:</a:t>
            </a:r>
            <a:r>
              <a:rPr b="0" lang="en-US" sz="2000" spc="-1" strike="noStrike">
                <a:solidFill>
                  <a:srgbClr val="4f81bd"/>
                </a:solidFill>
                <a:latin typeface="Comic Sans MS"/>
              </a:rPr>
              <a:t>www.ekt.gr-</a:t>
            </a:r>
            <a:r>
              <a:rPr b="0" lang="el-GR" sz="2000" spc="-1" strike="noStrike">
                <a:solidFill>
                  <a:srgbClr val="4f81bd"/>
                </a:solidFill>
                <a:latin typeface="Comic Sans MS"/>
              </a:rPr>
              <a:t>Σχολική βιβλιοθήκη. </a:t>
            </a: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Μας οδηγεί σε ελληνικές και ξενόγλωσσες πηγέ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Ηλεκτρονική αναζήτηση με μηχανές αναζήτησης στο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Internet</a:t>
            </a:r>
            <a:r>
              <a:rPr b="0" lang="el-GR" sz="20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ή σε καταλόγους άλλων βιβλιοθηκών π.χ. Πανεπιστήμιο Θεσ/νίκης ή ΤΕΙ Κοζάνη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5 - Αριστερό βέλος">
            <a:hlinkClick r:id="rId1" action="ppaction://hlinksldjump"/>
          </p:cNvPr>
          <p:cNvSpPr/>
          <p:nvPr/>
        </p:nvSpPr>
        <p:spPr>
          <a:xfrm>
            <a:off x="2928960" y="835812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9" name="6 - TextBox"/>
          <p:cNvSpPr/>
          <p:nvPr/>
        </p:nvSpPr>
        <p:spPr>
          <a:xfrm>
            <a:off x="3214800" y="8501040"/>
            <a:ext cx="78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1400" spc="-1" strike="noStrike" u="sng">
                <a:solidFill>
                  <a:srgbClr val="ffffff"/>
                </a:solidFill>
                <a:uFillTx/>
                <a:latin typeface="Comic Sans MS"/>
                <a:hlinkClick r:id="rId2" action="ppaction://hlinksldjump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55308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B</a:t>
            </a:r>
            <a:r>
              <a:rPr b="1" lang="el-GR" sz="3200" spc="-1" strike="noStrike">
                <a:solidFill>
                  <a:srgbClr val="008000"/>
                </a:solidFill>
                <a:latin typeface="Comic Sans MS"/>
              </a:rPr>
              <a:t>ήμα 4:Αναζήτηση σε καταλόγους περιοδικών εκδόσεων</a:t>
            </a:r>
            <a:endParaRPr b="0" lang="en-US" sz="32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Κατάλογος περιοδικών</a:t>
            </a:r>
            <a:r>
              <a:rPr b="0" lang="el-GR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της σχολικής βιβλιοθήκης. Αναζήτηση άρθρω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Κατάλογος συλλογών εφημερίδων σχολικής βιβλιοθήκη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Ηλεκτρονική αναζήτηση στο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  <a:hlinkClick r:id="rId1"/>
              </a:rPr>
              <a:t>www.ekt.g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mic Sans MS"/>
              </a:rPr>
              <a:t>   </a:t>
            </a:r>
            <a:r>
              <a:rPr b="0" lang="el-GR" sz="2000" spc="-1" strike="noStrike">
                <a:solidFill>
                  <a:srgbClr val="4f81bd"/>
                </a:solidFill>
                <a:latin typeface="Comic Sans MS"/>
              </a:rPr>
              <a:t>κλικ</a:t>
            </a: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 Σχολική βιβλιοθήκη </a:t>
            </a:r>
            <a:r>
              <a:rPr b="0" lang="el-GR" sz="2000" spc="-1" strike="noStrike">
                <a:solidFill>
                  <a:srgbClr val="4f81bd"/>
                </a:solidFill>
                <a:latin typeface="Comic Sans MS"/>
              </a:rPr>
              <a:t>κλικ</a:t>
            </a: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 εφημερίδες,περιοδικά (ελληνικά και ξένα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Ηλεκτρονική αναζήτηση σε εφημερίδες που προσφέρουν αυτήν την υπηρεσία, για άρθρα που αφορούν το θέμα μας(π.χ. Βήμα, Καθημερινή κ.λ.π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4f81bd"/>
                </a:solidFill>
                <a:uFillTx/>
                <a:latin typeface="Comic Sans MS"/>
              </a:rPr>
              <a:t>Σημείωση</a:t>
            </a:r>
            <a:r>
              <a:rPr b="0" lang="el-GR" sz="2000" spc="-1" strike="noStrike">
                <a:solidFill>
                  <a:srgbClr val="008000"/>
                </a:solidFill>
                <a:latin typeface="Comic Sans MS"/>
              </a:rPr>
              <a:t> Όταν μπαίνουμε σε τέτοιους καταλόγους πρέπει πάντα να σημειώνουμε την ηλεκτρονική διεύθυνση, όπου βρίσκουμε κάτι χρήσιμο, ώστε άλλη φορά να μπορέσουμε να το ξαναβρούμ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5 - Αριστερό βέλος">
            <a:hlinkClick r:id="rId2" action="ppaction://hlinksldjump"/>
          </p:cNvPr>
          <p:cNvSpPr/>
          <p:nvPr/>
        </p:nvSpPr>
        <p:spPr>
          <a:xfrm>
            <a:off x="2928960" y="8358120"/>
            <a:ext cx="1071720" cy="57168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3" name="6 - TextBox"/>
          <p:cNvSpPr/>
          <p:nvPr/>
        </p:nvSpPr>
        <p:spPr>
          <a:xfrm>
            <a:off x="3214800" y="8501040"/>
            <a:ext cx="78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1400" spc="-1" strike="noStrike" u="sng">
                <a:solidFill>
                  <a:srgbClr val="ffffff"/>
                </a:solidFill>
                <a:uFillTx/>
                <a:latin typeface="Comic Sans MS"/>
                <a:hlinkClick r:id="rId3" action="ppaction://hlinksldjump"/>
              </a:rPr>
              <a:t>πίσω</a:t>
            </a:r>
            <a:endParaRPr b="0" lang="en-US" sz="1400" spc="-1" strike="noStrike">
              <a:solidFill>
                <a:srgbClr val="0066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8T09:15:38Z</dcterms:created>
  <dc:creator>SCHOOL</dc:creator>
  <dc:description/>
  <dc:language>en-US</dc:language>
  <cp:lastModifiedBy>Πηνελόπη</cp:lastModifiedBy>
  <dcterms:modified xsi:type="dcterms:W3CDTF">2011-11-15T06:51:36Z</dcterms:modified>
  <cp:revision>29</cp:revision>
  <dc:subject/>
  <dc:title>Eφτά βήματα στη διαδικασία της αναζήτησης</dc:title>
</cp:coreProperties>
</file>